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BC1-184C-4CE9-9902-0FBC440C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F3E-43DC-4FAF-95D6-E00466A0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4FB7-79CC-4153-828C-E7C134FF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154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4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90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154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4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C14A-61C5-420D-867A-10BC3CCF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1CE-8C3F-4187-AB1F-EF369A78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F642-A99F-4C3D-8DD7-0A5E7901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B33-09A9-4F65-B1D8-1564D9D4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690-929A-4E91-AC90-B47BC678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324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EEE-A55A-4EE9-A987-3F0BE2F8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185-1EBE-455D-9A8E-EFF827D2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39F-8F6B-4D10-962E-0DEF3CA8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07E-13FF-4887-B5F9-BC9CE78E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80D6-902B-4488-86F0-8F8C05221776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95600" y="977760"/>
            <a:ext cx="29880" cy="24120"/>
          </a:xfrm>
          <a:custGeom>
            <a:avLst/>
            <a:gdLst/>
            <a:ahLst/>
            <a:rect l="l" t="t" r="r" b="b"/>
            <a:pathLst>
              <a:path w="74" h="61">
                <a:moveTo>
                  <a:pt x="74" y="33"/>
                </a:moveTo>
                <a:lnTo>
                  <a:pt x="74" y="33"/>
                </a:lnTo>
                <a:lnTo>
                  <a:pt x="60" y="0"/>
                </a:lnTo>
                <a:lnTo>
                  <a:pt x="0" y="61"/>
                </a:lnTo>
                <a:lnTo>
                  <a:pt x="30" y="30"/>
                </a:lnTo>
                <a:lnTo>
                  <a:pt x="74" y="3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95600" y="977760"/>
            <a:ext cx="23760" cy="24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1"/>
                </a:moveTo>
                <a:lnTo>
                  <a:pt x="61" y="0"/>
                </a:lnTo>
                <a:lnTo>
                  <a:pt x="0" y="61"/>
                </a:lnTo>
                <a:lnTo>
                  <a:pt x="2" y="62"/>
                </a:lnTo>
                <a:lnTo>
                  <a:pt x="62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95600" y="977760"/>
            <a:ext cx="23760" cy="24120"/>
          </a:xfrm>
          <a:custGeom>
            <a:avLst/>
            <a:gdLst/>
            <a:ahLst/>
            <a:rect l="l" t="t" r="r" b="b"/>
            <a:pathLst>
              <a:path w="62" h="61">
                <a:moveTo>
                  <a:pt x="0" y="60"/>
                </a:moveTo>
                <a:lnTo>
                  <a:pt x="2" y="61"/>
                </a:lnTo>
                <a:lnTo>
                  <a:pt x="32" y="30"/>
                </a:lnTo>
                <a:lnTo>
                  <a:pt x="62" y="0"/>
                </a:lnTo>
                <a:lnTo>
                  <a:pt x="2" y="61"/>
                </a:lnTo>
                <a:lnTo>
                  <a:pt x="0" y="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695600" y="988920"/>
            <a:ext cx="29880" cy="12960"/>
          </a:xfrm>
          <a:custGeom>
            <a:avLst/>
            <a:gdLst/>
            <a:ahLst/>
            <a:rect l="l" t="t" r="r" b="b"/>
            <a:pathLst>
              <a:path w="74" h="33">
                <a:moveTo>
                  <a:pt x="0" y="33"/>
                </a:moveTo>
                <a:lnTo>
                  <a:pt x="0" y="33"/>
                </a:lnTo>
                <a:lnTo>
                  <a:pt x="74" y="0"/>
                </a:lnTo>
                <a:lnTo>
                  <a:pt x="30" y="2"/>
                </a:lnTo>
                <a:lnTo>
                  <a:pt x="0" y="3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841200" y="1843200"/>
            <a:ext cx="60480" cy="48960"/>
          </a:xfrm>
          <a:custGeom>
            <a:avLst/>
            <a:gdLst/>
            <a:ahLst/>
            <a:rect l="l" t="t" r="r" b="b"/>
            <a:pathLst>
              <a:path w="76" h="63">
                <a:moveTo>
                  <a:pt x="76" y="34"/>
                </a:moveTo>
                <a:lnTo>
                  <a:pt x="76" y="34"/>
                </a:lnTo>
                <a:lnTo>
                  <a:pt x="62" y="0"/>
                </a:lnTo>
                <a:lnTo>
                  <a:pt x="0" y="63"/>
                </a:lnTo>
                <a:lnTo>
                  <a:pt x="31" y="31"/>
                </a:lnTo>
                <a:lnTo>
                  <a:pt x="76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2839760" y="1841400"/>
            <a:ext cx="50760" cy="50760"/>
          </a:xfrm>
          <a:custGeom>
            <a:avLst/>
            <a:gdLst/>
            <a:ahLst/>
            <a:rect l="l" t="t" r="r" b="b"/>
            <a:pathLst>
              <a:path w="63" h="64">
                <a:moveTo>
                  <a:pt x="63" y="1"/>
                </a:moveTo>
                <a:lnTo>
                  <a:pt x="62" y="0"/>
                </a:lnTo>
                <a:lnTo>
                  <a:pt x="0" y="62"/>
                </a:lnTo>
                <a:lnTo>
                  <a:pt x="1" y="64"/>
                </a:lnTo>
                <a:lnTo>
                  <a:pt x="63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839760" y="1843200"/>
            <a:ext cx="50760" cy="4896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61"/>
                </a:moveTo>
                <a:lnTo>
                  <a:pt x="1" y="63"/>
                </a:lnTo>
                <a:lnTo>
                  <a:pt x="32" y="31"/>
                </a:lnTo>
                <a:lnTo>
                  <a:pt x="63" y="0"/>
                </a:lnTo>
                <a:lnTo>
                  <a:pt x="1" y="63"/>
                </a:lnTo>
                <a:lnTo>
                  <a:pt x="0" y="6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2841200" y="1865160"/>
            <a:ext cx="60480" cy="27000"/>
          </a:xfrm>
          <a:custGeom>
            <a:avLst/>
            <a:gdLst/>
            <a:ahLst/>
            <a:rect l="l" t="t" r="r" b="b"/>
            <a:pathLst>
              <a:path w="76" h="34">
                <a:moveTo>
                  <a:pt x="0" y="34"/>
                </a:moveTo>
                <a:lnTo>
                  <a:pt x="0" y="34"/>
                </a:lnTo>
                <a:lnTo>
                  <a:pt x="76" y="0"/>
                </a:lnTo>
                <a:lnTo>
                  <a:pt x="31" y="2"/>
                </a:lnTo>
                <a:lnTo>
                  <a:pt x="0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boratorio de PRC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A5C-2479-4D56-B5AC-AE328E086A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imer programa (I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algan de Turbo Pas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uelvan a entrar en Turbo Pascal y recuperen el mismo programa que acaban de escrib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leccionenlo de la lista de programas o escriban su nombre debajo de Name. Hagan click en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308-81BE-4BDD-906C-D065223413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imer programa (IV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n el programa hasta que no de err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da errores, avísen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bo Pascal les dice “press any key”, así que opriman cualquier tec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AE5-AF74-4575-8500-47EBCD9C46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imer programa (V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cuten el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salida es desplegada momentáneamente en la pantalla pero Turbo Pascal regresa inmediatamente a la pantalla de ejec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recuperar la pantalla de salida, opriman Alt+F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4D0-ED93-487B-AD16-46EA6948C8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imer programa (V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cuten varias veces el progra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ren lo que aparece en la pantalla de ejecución, oprimiendo Alt+F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9B5-1692-4376-99B4-C6E62D6EA6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Qué hemos aprendido del primer programa?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y dos pantall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pantalla de edición (se escribe el progra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pantalla de ejecución (se ejecuta el program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se acaba de ejecutar un prog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urbo Pascal regresa inmediatamente a la pantalla de ed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 recuperar la pantalla de ejecución, Alt+F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EFB-EFB4-4DA1-AA94-8A6DEC348B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5257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Qué hemos aprendido del primer programa?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62520" y="21337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compilamos puede dar errores: errores de compi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ta que no se corrijan no se puede ejecut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que corregirlos y compilar de nue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600200"/>
            <a:ext cx="236232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S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6080" y="3809880"/>
            <a:ext cx="2364480" cy="1143000"/>
            <a:chOff x="226080" y="3809880"/>
            <a:chExt cx="2364480" cy="1143000"/>
          </a:xfrm>
        </p:grpSpPr>
        <p:sp>
          <p:nvSpPr>
            <p:cNvPr id="107" name=""/>
            <p:cNvSpPr/>
            <p:nvPr/>
          </p:nvSpPr>
          <p:spPr>
            <a:xfrm>
              <a:off x="228600" y="3809880"/>
              <a:ext cx="2361960" cy="1143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080" y="3962520"/>
              <a:ext cx="2343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ograma e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lenguaje máquina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371600" y="274320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2440" y="304812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il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52280"/>
            <a:ext cx="2743200" cy="762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specific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1400" y="5257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jecu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49528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019920"/>
            <a:ext cx="2743200" cy="761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914400"/>
            <a:ext cx="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2800" y="9907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4419720"/>
            <a:ext cx="3045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895480" y="2133720"/>
            <a:ext cx="0" cy="22860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590920" y="2133720"/>
            <a:ext cx="3045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44680" y="2860560"/>
            <a:ext cx="16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rrores 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il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D22-9D95-4806-B462-7092DD7B60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egundo programa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=3000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=precio_sin_IVA+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ecio con IVA de este producto es ‘, precio_con_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8FB-CEBA-4B9F-B8DF-4B4230C6FA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egundo programa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íbanlo, grábenlo, compilenlo y ejecuten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es lo que produce el programa por pantall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unta: ¿Cómo podríamos modificarlo para que sacara el IVA de 400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AC8-7739-47F3-9432-7874775ADC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egundo programa (I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=4000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=precio_sin_IVA+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ecio con IVA de este producto es ‘, precio_con_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419720" y="3048120"/>
            <a:ext cx="914400" cy="1295280"/>
          </a:xfrm>
          <a:prstGeom prst="line">
            <a:avLst/>
          </a:prstGeom>
          <a:ln w="127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E88-57A6-4B5B-BD32-28DF97B04A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rcer programa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uesto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sin_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precio con IVA ‘)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precio_con_IV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A:=0.13*precio_sin_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_con_IVA:=precio_sin_IVA+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ecio con IVA de este producto es ‘, precio_con_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21337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DIFIQUEN EL SEGUND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GRAMA Y GRABENLO C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RO NOMB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D16-4739-49AF-BEA7-F0F2F5F012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compilador de Turbo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286000"/>
            <a:ext cx="236232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S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426480" y="4495680"/>
            <a:ext cx="2364480" cy="1143000"/>
            <a:chOff x="3426480" y="4495680"/>
            <a:chExt cx="2364480" cy="1143000"/>
          </a:xfrm>
        </p:grpSpPr>
        <p:sp>
          <p:nvSpPr>
            <p:cNvPr id="53" name=""/>
            <p:cNvSpPr/>
            <p:nvPr/>
          </p:nvSpPr>
          <p:spPr>
            <a:xfrm>
              <a:off x="3429000" y="4495680"/>
              <a:ext cx="2361960" cy="1143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6480" y="4648320"/>
              <a:ext cx="2343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ograma e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lenguaje máquina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572000" y="342900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2840" y="373392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il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1280" y="1793880"/>
            <a:ext cx="765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a computadora sólo entiende un lenguaje de programación: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l lenguaje máquin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8200" y="5638680"/>
            <a:ext cx="797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os otros lenguajes de programación deben traducirse a código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áquina para que la computadora lo entiend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 esta traducción se le llama COMPILACIÓ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0C9-7A00-4A74-BA55-C89B7115B4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rcer programa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ilenlo y ejecuten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uál parece el más conveniente: el segundo programa o el tercer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orren el primer “write”. ¿Qué pas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uál es la función del primer wri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7AE-F910-4D0B-93E0-7FE98B46E3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Modific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quen los dos últimos programas para que al principio escriba que es lo que hace el programa (con un “writeln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r de ahora, lo haremos siempre así, aunque yo no lo haga en la pizar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653-36E0-4A01-8046-DBCB30C959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uarto programa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roduct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1, factor2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primer factor ‘); readln(factor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segundo factor ‘); readln(factor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l producto de ‘, factor1, ‘ por ‘, factor2, ‘ es ‘, factor1*facto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1357-43FB-4EA9-A625-7218C6CBA9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uarto programa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ábenlo, compilenlo y ejecutenlo varias veces para ver cuál es su ef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058-2B09-4445-B6EF-00CA81619E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rrores de programación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rrores de compilación (errores de sintaxi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los que señala el compil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producen cuando se viola la sintaxis de Pas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 ‘Hola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(“a”); a=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n los menos peligrosos, ya que Turbo Pascal te avisa y no te deja ejecutar el programa si no los corri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0EF-70C9-4F3A-8774-67A96C6002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rrores de programación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rrores de ejecu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los que se producen cuando se ejecuta el pro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precio_con_IVA es una variable entera y cuando se ejecuta read(precio_con_IVA) se le pone 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se producen, se detiene el programa y se genera un mensaje de err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179-8835-43F0-A20B-F50E793374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rrores de programación (I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es lógicos: No se viola ninguna regla del Pascal, pero el programa no hace lo que queremos que ha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 -&gt; promedio:=b+c/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primero se divide por dos y después se suma, no da el valor corr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 los más peligrosos, ya que Turbo Pascal no te avisa. Ejemplo: problema del año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D45A-1204-49D7-87C4-007AED2721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pida por pantalla un precio y un tanto por cien y que produzca el resultado de aplicar al numero el tanto por ci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D6B-1CFC-4BCD-B7A7-F19413FF2B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orcentaj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, TantoPorCiento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el precio ‘); readln(preci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el tanto por ciento ‘); readln(TantoPorCient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l resultado de aplicar ‘, TantoPorCiento, ‘% a ‘, precio, ‘es ‘, precio*TantoPorCiento/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96B8-FF01-49C8-A5A0-99D07059C6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pasaría si en el readln(precio) yo pusiera readln(prec)? ¿Qué clase de error ser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pasaría si yo le pido el 13.5%? ¿Qué clase de error ser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pasaría si en la última línea yo pusiera precio*TantoPorCiento/35? ¿Turbo Pascal avisaría? ¿Qué clase de error ser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F01-3D0E-4FF3-BF12-4BB94C41AB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33720" y="1600200"/>
            <a:ext cx="236196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S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131200" y="3809880"/>
            <a:ext cx="2364480" cy="1143000"/>
            <a:chOff x="2131200" y="3809880"/>
            <a:chExt cx="2364480" cy="1143000"/>
          </a:xfrm>
        </p:grpSpPr>
        <p:sp>
          <p:nvSpPr>
            <p:cNvPr id="61" name=""/>
            <p:cNvSpPr/>
            <p:nvPr/>
          </p:nvSpPr>
          <p:spPr>
            <a:xfrm>
              <a:off x="2133720" y="3809880"/>
              <a:ext cx="2361960" cy="1143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1200" y="3962520"/>
              <a:ext cx="2343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ograma e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lenguaje máquina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276720" y="274320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7200" y="304812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il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152280"/>
            <a:ext cx="2743200" cy="762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specific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520" y="5257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jecu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9528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6019920"/>
            <a:ext cx="2743200" cy="761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914400"/>
            <a:ext cx="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7920" y="9907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4040" y="30492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que escriba “Hola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99160" y="1447920"/>
            <a:ext cx="242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rogram hola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write(‘hola’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62520" y="369900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01000101 1100110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10001110  0010110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5715000"/>
            <a:ext cx="1752480" cy="91440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14440" y="5756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l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00" y="2743200"/>
            <a:ext cx="228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iclo de vid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 un progra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n Pas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CDC-D3BA-43D3-A642-4FC90A6222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a que pide dos números y los ecribe en forma in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CDE-1924-423F-9511-FC4C34BFB19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invers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1, numero2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primer número ‘); readln(numero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primer número ‘); readln(numero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A la inversa son: ‘, numero2, ‘,’, numero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A250-F361-406E-9B0F-96473A6176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istema Turbo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rve para llevar a cabo todas las tareas especificadas anterior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ne un editor de texto para progra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ne un compilador para comp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ne un ejecutor de código máquina para ejecutar el prog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ne todo lo necesario para escribir y hacer funcionar un programa en Pas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169-117E-441A-8275-8A30B5DA70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antalla principal de Turbo Pascal 7.0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781320" y="228600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rra de menú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248520" y="259092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80960" y="396252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Área de edi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248520" y="426708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8630-9B97-40EB-9908-2120ED2BF2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antalla principal de Turbo Pascal 7.0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el área de edición es donde escribimos el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la barra de menús, hay una serie de menús desplegables que contienen las acciones que pueden hacerse sobre el prog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a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cuta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barlo en dis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perarlo desde disco y ot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E4F-09E0-4D49-880B-794ED1B6DF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cciones principales de los menús desplegab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abarlo en disco: File Save o F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erlo de disco: File Open o F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ilarlo: Compile Compile o Alt+F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cutarlo: Run Run o Ctrl+F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si no está compilado se compilará automáticame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alir de Turbo Pascal: File Exit o Alt+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6F5-C11F-4601-B84F-DEB55B4017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imer programa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an en el área de ed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salud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Hola, mi amo y señor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A3A-8CFF-49A3-A51D-1D194674F6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imer programa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ben el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e una pantalla que les pregunta el nombre del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an el nombre y pulsen 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os los programas en Pascal deberían tener la extensión .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9AD-3F22-4B35-96D0-5ED1416417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7T00:25:30Z</dcterms:created>
  <dc:creator>BLANCA CECILIA</dc:creator>
  <dc:description/>
  <dc:language>en-US</dc:language>
  <cp:lastModifiedBy> </cp:lastModifiedBy>
  <dcterms:modified xsi:type="dcterms:W3CDTF">2008-02-10T09:34:11Z</dcterms:modified>
  <cp:revision>38</cp:revision>
  <dc:subject/>
  <dc:title>Sin título de diapositiva</dc:title>
</cp:coreProperties>
</file>